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0C64-F8F6-470F-AEE5-A551B53A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3D78-2EBA-4FE9-9DFF-5AD938A6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A84C-9EE6-4AC9-A18D-2D45ADC5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2229-B167-44A1-8D2A-1B67B330B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C595-0F24-4172-926B-658B354C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9DE6-B69E-4DA7-A19E-D014603F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C7EB-50CB-49DF-9EF5-6F004F60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E2FE-4FF5-4BFC-86D8-C33FD65C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0F33-AB51-4693-80F6-3B3F642D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9FC0-3E6A-4BDF-BFF8-8A961D5D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BE32-DA22-4F24-911C-225EF1C6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4815-F297-4A34-B7FD-C49D7B5D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CD0C-0EE9-4A2D-9C44-4A651E64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4EB5-F261-420A-BCDE-3EED1A37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7823-F4E7-4AD9-B92B-F9430433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50A0-3AD4-45A3-9E69-C6B2C0CE4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FF73-36A9-4302-A310-BCC66FFAD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7C677-859C-4E69-98A2-2D4DAD4A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774C5-F157-422A-B76F-95FEED75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713F2-4394-42B3-965D-A93258C8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46CE1-A7EF-40D1-B288-42E01114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DEA0F-B717-4C4F-98D8-963FFA64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8298-0663-43CB-886D-97E923C1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88583-DFB1-4F69-884C-A9FE3926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02B47-9A6A-4417-971B-46CF8F4E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E13F7-CADA-4CBD-A1BA-89C59E45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3932A-EFDC-4F3C-89B8-220665AE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65DC2-4A6A-4799-8FEA-6770D95B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EC3BF-F1F5-4C6C-B1DD-61B10C3F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A9DD3-FE80-4E07-81E3-CA05831D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CABB9-3AF6-49B0-9586-B837EC9F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D35AE-DDD9-4EE1-902D-689B8B09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4CF13-E8BD-427A-9E45-B23131C6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489C-B880-4A9E-8A29-D84A0FE1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E8621-178B-4647-A81B-741869EE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73127-B75C-4AA6-BF8B-BEAE2531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B5182-C3BC-4554-9EAF-2A9A151C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4B5B9-94FC-4391-BF97-5E66628A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CEA31-2B43-434D-A900-3B6C0733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675F2-9910-4BEB-8A01-61795750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C7014-93EB-41D9-8C1B-99977CF0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6B484-AA1A-4225-85DF-49A2DE51C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A44D4-E954-4D46-A964-4F5B9448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1A424-4BDD-489B-B126-8C699D6E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F8D5-AF41-4FE6-AF4F-F54D936E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ED943-6AE6-4696-9ECB-7561335A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D5175-845E-473E-BB62-1380DFA9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3C099-24AA-4932-84FD-C9FBB9DD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E0ED4-933D-4168-97AE-4C8ECABB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E9AF0-43C5-4CBA-8F42-3D300C01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070BA-050E-4BAC-A21E-4581C5A8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6344F-AABF-4C7A-B5C5-26E9B09E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791DD-7381-4765-9072-E7FE897C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C5C4B-CEAE-4334-93E3-3CC52896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7B7B8-E285-4938-8A98-17FE02A80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3362-14DD-42BD-BCCC-968EF5EB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F3BBF-2A15-4287-A1B9-2B330591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7151A-8AAC-42A6-A46C-35091BD0C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DCFF4-B885-4581-8F13-2B533482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3DD47-341C-4DF4-A465-A8B176B6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736D2-0993-4341-8EAA-75F29E15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752DD-F271-44B8-AD99-51DA013D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121D2-566E-487B-86E6-D5754A20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12E49-D896-45B3-9179-94AD02BF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5D352-F854-476F-BE09-95EEF064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50CA9-D820-4852-B7F1-0A819E7F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7768-C267-4CAE-8820-4F5CDFBC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804F9-4359-4B71-A56D-EEB949CA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BC768-8017-4AF6-B68B-4C35D10D6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A581A-8E4F-41FB-ABC9-7C063C4A0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B0045-8C54-453D-AF9C-A183A197D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E65A0-F8FD-430A-8414-8D359AB8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9C8E7-9FE9-46E1-BA62-10759900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A9E60-733F-4EBC-B51A-F74016A4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51181-4D7C-4DF8-BCAC-1DF8EF9A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FBB15-BC23-49F5-9FCC-377A87A3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07F49-BA80-45C3-BD52-20D9B77C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5D6B-ACC9-4641-8783-B04F4FAA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872F6-81C2-4F2E-BDCA-9967AFDC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B1801-3BE3-4AAE-8DFB-0A2A5921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C7884-D5A2-4A4D-BD59-53B2A745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C01E6-FEBF-4ADE-929F-50CB9F22F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91017-CF36-4425-80F6-77AD5448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DE2C9-5443-4E3E-BE92-C35D01E8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674DA-8F53-4603-9D96-AE5A7252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51F4C-1D6B-4196-A3CE-F92664B6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40610-7B17-4E4E-AE81-9CB090C7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0FF03-885B-45D9-9D45-BCAD2FDA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25D5-93A1-43A7-B47A-D5D4AC9C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54D6D-EB1A-4763-8179-13C53FB7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3534C-9E93-411F-8B7F-4004F3FD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D4C8D-0A2F-4F85-BB88-C391B956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20B82-1F2E-409B-8EEA-B8824370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54D4E-5E9E-4CA4-B48A-5AA73768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EE609-B2AB-495F-986A-B5C92391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E5492-6E3F-4F0D-8618-957B2B6D2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21E0-69F3-4C54-8B39-96E4F0CA8D5D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F4DE-FB24-4C8D-960E-6DF340792674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4D82-3182-4412-A4AF-CA27120B58FE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9234-6473-4DD6-B4CC-2735A219C503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DB44-1832-485A-B478-7D602C17B769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E9D3-406A-41F1-A320-40E1F15C0590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A010-D8FE-4895-B10C-35ADA43D81B0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1B1E-2DC3-421F-A50F-7F53D82E59AF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Erik_Bern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Трансакционный анализ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464653"/>
                </a:solidFill>
                <a:latin typeface="Cambria"/>
              </a:rPr>
              <a:t>Лектор: кандидат социологических наук, доцент Л.К. Качалов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омер слайда 5"/>
          <p:cNvSpPr/>
          <p:nvPr/>
        </p:nvSpPr>
        <p:spPr>
          <a:xfrm>
            <a:off x="1216080" y="63547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28DB-F9E8-43CA-8498-CBA6837A6981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Археопсихика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51CA-2D65-4A4A-94A1-317E44C000E2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информация, воспринятая незрелой личностью ребенка. Большая часть этой информации является чувственной, эмоциональной,   причем эмоции преобладают над разумо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Схема 4" descr=""/>
          <p:cNvPicPr/>
          <p:nvPr/>
        </p:nvPicPr>
        <p:blipFill>
          <a:blip r:embed="rId1"/>
          <a:stretch/>
        </p:blipFill>
        <p:spPr>
          <a:xfrm>
            <a:off x="987480" y="2962440"/>
            <a:ext cx="49687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4653"/>
                </a:solidFill>
                <a:latin typeface="Cambria"/>
              </a:rPr>
              <a:t>Поведенческие характеристики основных трансакций</a:t>
            </a:r>
            <a:endParaRPr b="0" lang="en-US" sz="24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4B5E-A602-4638-A0BA-E2CCE5B0A3F6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Родитель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 требует, оценивает (осуждает и одобряет), учит, руководит, покровительствует и т. п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Взрослый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 работает с информацией, рассуждает, анализирует, уточняет ситуацию, разговаривает на равных, апеллирует к разуму, логике и т. п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Поведенческие характеристики основных трансакций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109D-7015-4706-AD99-8F2CDCBFAD8F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Ребенок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 проявляет чувства (обиды, страха, вины и т. п.), подчиняется, шалит, проявляет беспомощность, задает вопросы: «Почему я?», «За что меня наказали?», извиняется в ответ на замечания и т. п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Структурная патология 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306E-50CE-4AF8-9502-37109505C73E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номалии в психической структуре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1)исключени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clusion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2)заражени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tamination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Исключение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6EEF-D022-4BD3-9DBB-8BFC4DCC56C3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является в очень стереотипном  образе действий или поведении, за которое человек цепляется как можно дольше при проявлении какой-либо угрожающей ситуаци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поколебимый Родитель, непоколебимый Взрослый или Ребено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Заражение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(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contamination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7368-4E35-4847-AB35-006D2A8867D9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.Берн считал, что лучшие примеры заражения можно представить некоторыми типами предубеждений (предрассудков) или бредовых состояний (делириев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Заражение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0B6B-85F2-4183-90EF-008C8693F645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руктура предрассудка: часть Родителя совмещается с Взрослым и находится внутри границ Я Взрослого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руктура бреда: часть Ребенка совмещается с Взрослым и находится внутри границы Я взрослого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Простое заражение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5D09-4121-4BEC-A2EC-6E138A2FBD2F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руктура предрассуд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руктур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бред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Овал 7"/>
          <p:cNvSpPr/>
          <p:nvPr/>
        </p:nvSpPr>
        <p:spPr>
          <a:xfrm>
            <a:off x="1676520" y="2590920"/>
            <a:ext cx="1143000" cy="1218960"/>
          </a:xfrm>
          <a:prstGeom prst="ellipse">
            <a:avLst/>
          </a:prstGeom>
          <a:solidFill>
            <a:srgbClr val="d2da7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Овал 9"/>
          <p:cNvSpPr/>
          <p:nvPr/>
        </p:nvSpPr>
        <p:spPr>
          <a:xfrm>
            <a:off x="1676520" y="3429000"/>
            <a:ext cx="1143000" cy="1066680"/>
          </a:xfrm>
          <a:prstGeom prst="ellipse">
            <a:avLst/>
          </a:prstGeom>
          <a:solidFill>
            <a:srgbClr val="d2da7a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Овал 10"/>
          <p:cNvSpPr/>
          <p:nvPr/>
        </p:nvSpPr>
        <p:spPr>
          <a:xfrm>
            <a:off x="1676520" y="4572000"/>
            <a:ext cx="1143000" cy="1066680"/>
          </a:xfrm>
          <a:prstGeom prst="ellipse">
            <a:avLst/>
          </a:prstGeom>
          <a:solidFill>
            <a:srgbClr val="d2da7a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Овал 13"/>
          <p:cNvSpPr/>
          <p:nvPr/>
        </p:nvSpPr>
        <p:spPr>
          <a:xfrm>
            <a:off x="5257800" y="2666880"/>
            <a:ext cx="1143000" cy="1143000"/>
          </a:xfrm>
          <a:prstGeom prst="ellipse">
            <a:avLst/>
          </a:prstGeom>
          <a:solidFill>
            <a:srgbClr val="d2da7a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Овал 14"/>
          <p:cNvSpPr/>
          <p:nvPr/>
        </p:nvSpPr>
        <p:spPr>
          <a:xfrm>
            <a:off x="5257800" y="3886200"/>
            <a:ext cx="1143000" cy="1066680"/>
          </a:xfrm>
          <a:prstGeom prst="ellipse">
            <a:avLst/>
          </a:prstGeom>
          <a:solidFill>
            <a:srgbClr val="d2da7a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Овал 15"/>
          <p:cNvSpPr/>
          <p:nvPr/>
        </p:nvSpPr>
        <p:spPr>
          <a:xfrm>
            <a:off x="5257800" y="4572000"/>
            <a:ext cx="1143000" cy="1066680"/>
          </a:xfrm>
          <a:prstGeom prst="ellipse">
            <a:avLst/>
          </a:prstGeom>
          <a:solidFill>
            <a:srgbClr val="d2da7a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Двойное заражение 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9" name="Номер слайда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B9C8-0CE7-44D3-8199-CD90DA6940B0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атрагивает пять зон личн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Овал 6"/>
          <p:cNvSpPr/>
          <p:nvPr/>
        </p:nvSpPr>
        <p:spPr>
          <a:xfrm>
            <a:off x="1447920" y="2666880"/>
            <a:ext cx="1295280" cy="1295640"/>
          </a:xfrm>
          <a:prstGeom prst="ellipse">
            <a:avLst/>
          </a:prstGeom>
          <a:solidFill>
            <a:srgbClr val="ced66d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Овал 7"/>
          <p:cNvSpPr/>
          <p:nvPr/>
        </p:nvSpPr>
        <p:spPr>
          <a:xfrm>
            <a:off x="1447920" y="3581280"/>
            <a:ext cx="1295280" cy="1295640"/>
          </a:xfrm>
          <a:prstGeom prst="ellipse">
            <a:avLst/>
          </a:prstGeom>
          <a:solidFill>
            <a:srgbClr val="d2da7a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Овал 8"/>
          <p:cNvSpPr/>
          <p:nvPr/>
        </p:nvSpPr>
        <p:spPr>
          <a:xfrm>
            <a:off x="1447920" y="4495680"/>
            <a:ext cx="1295280" cy="1295640"/>
          </a:xfrm>
          <a:prstGeom prst="ellipse">
            <a:avLst/>
          </a:prstGeom>
          <a:solidFill>
            <a:srgbClr val="ced66d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Трансакции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6" name="Номер слайда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ADA5-E1FC-4BA4-BA95-CADCE03B451B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Трансакция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— это единица общения, которая состоит из стимула и реакц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пример, стимул: «Привет!», реакция: «Привет! Как дела?»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План занятия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0C41-200D-430B-9C5B-D1D79A9CD7E5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. Структурный анали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. Трансакц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. Теория сценарие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Виды трансакций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DB67-5947-4139-945B-DC29298AB201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1) Параллельны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англ.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reciprocal/complementary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2) Пересекающиеся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(англ.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crossed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3) Скрыты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(англ.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duplex/covert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Cambria"/>
              </a:rPr>
              <a:t>Параллельные</a:t>
            </a:r>
            <a:endParaRPr b="0" lang="en-US" sz="6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DD30-D401-48E1-9921-73B8022C4B30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Овал 4"/>
          <p:cNvSpPr/>
          <p:nvPr/>
        </p:nvSpPr>
        <p:spPr>
          <a:xfrm>
            <a:off x="1371600" y="1752480"/>
            <a:ext cx="1371600" cy="1295640"/>
          </a:xfrm>
          <a:prstGeom prst="ellipse">
            <a:avLst/>
          </a:prstGeom>
          <a:solidFill>
            <a:srgbClr val="d2da7a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Овал 5"/>
          <p:cNvSpPr/>
          <p:nvPr/>
        </p:nvSpPr>
        <p:spPr>
          <a:xfrm>
            <a:off x="1371600" y="3200400"/>
            <a:ext cx="1371600" cy="1295280"/>
          </a:xfrm>
          <a:prstGeom prst="ellipse">
            <a:avLst/>
          </a:prstGeom>
          <a:solidFill>
            <a:srgbClr val="d2da7a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Овал 6"/>
          <p:cNvSpPr/>
          <p:nvPr/>
        </p:nvSpPr>
        <p:spPr>
          <a:xfrm>
            <a:off x="1447920" y="4724280"/>
            <a:ext cx="1371600" cy="1295640"/>
          </a:xfrm>
          <a:prstGeom prst="ellipse">
            <a:avLst/>
          </a:prstGeom>
          <a:solidFill>
            <a:srgbClr val="d2da7a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Овал 7"/>
          <p:cNvSpPr/>
          <p:nvPr/>
        </p:nvSpPr>
        <p:spPr>
          <a:xfrm>
            <a:off x="4343400" y="1752480"/>
            <a:ext cx="1371600" cy="1295640"/>
          </a:xfrm>
          <a:prstGeom prst="ellipse">
            <a:avLst/>
          </a:prstGeom>
          <a:solidFill>
            <a:srgbClr val="d2da7a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Овал 8"/>
          <p:cNvSpPr/>
          <p:nvPr/>
        </p:nvSpPr>
        <p:spPr>
          <a:xfrm>
            <a:off x="4343400" y="3276720"/>
            <a:ext cx="1371600" cy="1295280"/>
          </a:xfrm>
          <a:prstGeom prst="ellipse">
            <a:avLst/>
          </a:prstGeom>
          <a:solidFill>
            <a:srgbClr val="d2da7a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Овал 9"/>
          <p:cNvSpPr/>
          <p:nvPr/>
        </p:nvSpPr>
        <p:spPr>
          <a:xfrm>
            <a:off x="4419720" y="4724280"/>
            <a:ext cx="1371600" cy="1295640"/>
          </a:xfrm>
          <a:prstGeom prst="ellipse">
            <a:avLst/>
          </a:prstGeom>
          <a:solidFill>
            <a:srgbClr val="d2da7a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0" name="Прямая со стрелкой 22"/>
          <p:cNvCxnSpPr/>
          <p:nvPr/>
        </p:nvCxnSpPr>
        <p:spPr>
          <a:xfrm>
            <a:off x="2361960" y="3809520"/>
            <a:ext cx="2439000" cy="2520"/>
          </a:xfrm>
          <a:prstGeom prst="straightConnector1">
            <a:avLst/>
          </a:prstGeom>
          <a:ln w="38160">
            <a:solidFill>
              <a:srgbClr val="464653"/>
            </a:solidFill>
            <a:miter/>
            <a:tailEnd len="med" type="arrow" w="med"/>
          </a:ln>
        </p:spPr>
      </p:cxnSp>
      <p:cxnSp>
        <p:nvCxnSpPr>
          <p:cNvPr id="451" name="Прямая со стрелкой 31"/>
          <p:cNvCxnSpPr/>
          <p:nvPr/>
        </p:nvCxnSpPr>
        <p:spPr>
          <a:xfrm flipH="1" flipV="1">
            <a:off x="2437920" y="4114440"/>
            <a:ext cx="2286720" cy="2160"/>
          </a:xfrm>
          <a:prstGeom prst="straightConnector1">
            <a:avLst/>
          </a:prstGeom>
          <a:ln w="38160">
            <a:solidFill>
              <a:srgbClr val="46465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Пересекающиеся трансакции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53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0CF7-B0A3-425E-9962-EA726B1BCD6B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Овал 4"/>
          <p:cNvSpPr/>
          <p:nvPr/>
        </p:nvSpPr>
        <p:spPr>
          <a:xfrm>
            <a:off x="1905120" y="1676520"/>
            <a:ext cx="1523880" cy="1371600"/>
          </a:xfrm>
          <a:prstGeom prst="ellipse">
            <a:avLst/>
          </a:prstGeom>
          <a:solidFill>
            <a:srgbClr val="d2da7a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Овал 5"/>
          <p:cNvSpPr/>
          <p:nvPr/>
        </p:nvSpPr>
        <p:spPr>
          <a:xfrm>
            <a:off x="1828800" y="3124080"/>
            <a:ext cx="1523880" cy="1371600"/>
          </a:xfrm>
          <a:prstGeom prst="ellipse">
            <a:avLst/>
          </a:prstGeom>
          <a:solidFill>
            <a:srgbClr val="d2da7a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Овал 6"/>
          <p:cNvSpPr/>
          <p:nvPr/>
        </p:nvSpPr>
        <p:spPr>
          <a:xfrm>
            <a:off x="1752480" y="4648320"/>
            <a:ext cx="1524240" cy="1371600"/>
          </a:xfrm>
          <a:prstGeom prst="ellipse">
            <a:avLst/>
          </a:prstGeom>
          <a:solidFill>
            <a:srgbClr val="d2da7a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Овал 7"/>
          <p:cNvSpPr/>
          <p:nvPr/>
        </p:nvSpPr>
        <p:spPr>
          <a:xfrm>
            <a:off x="5638680" y="1676520"/>
            <a:ext cx="1524240" cy="1371600"/>
          </a:xfrm>
          <a:prstGeom prst="ellipse">
            <a:avLst/>
          </a:prstGeom>
          <a:solidFill>
            <a:srgbClr val="d2da7a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Овал 8"/>
          <p:cNvSpPr/>
          <p:nvPr/>
        </p:nvSpPr>
        <p:spPr>
          <a:xfrm>
            <a:off x="5638680" y="3124080"/>
            <a:ext cx="1524240" cy="1371600"/>
          </a:xfrm>
          <a:prstGeom prst="ellipse">
            <a:avLst/>
          </a:prstGeom>
          <a:solidFill>
            <a:srgbClr val="d2da7a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Овал 9"/>
          <p:cNvSpPr/>
          <p:nvPr/>
        </p:nvSpPr>
        <p:spPr>
          <a:xfrm>
            <a:off x="5715000" y="4572000"/>
            <a:ext cx="1523880" cy="1371600"/>
          </a:xfrm>
          <a:prstGeom prst="ellipse">
            <a:avLst/>
          </a:prstGeom>
          <a:solidFill>
            <a:srgbClr val="d2da7a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1" name="Прямая со стрелкой 11"/>
          <p:cNvCxnSpPr/>
          <p:nvPr/>
        </p:nvCxnSpPr>
        <p:spPr>
          <a:xfrm>
            <a:off x="2819160" y="3809520"/>
            <a:ext cx="3353400" cy="2520"/>
          </a:xfrm>
          <a:prstGeom prst="straightConnector1">
            <a:avLst/>
          </a:prstGeom>
          <a:ln w="38160">
            <a:solidFill>
              <a:srgbClr val="464653"/>
            </a:solidFill>
            <a:miter/>
            <a:tailEnd len="med" type="arrow" w="med"/>
          </a:ln>
        </p:spPr>
      </p:cxnSp>
      <p:cxnSp>
        <p:nvCxnSpPr>
          <p:cNvPr id="462" name="Прямая со стрелкой 13"/>
          <p:cNvCxnSpPr/>
          <p:nvPr/>
        </p:nvCxnSpPr>
        <p:spPr>
          <a:xfrm flipH="1" flipV="1">
            <a:off x="2971440" y="2437560"/>
            <a:ext cx="3277440" cy="2591640"/>
          </a:xfrm>
          <a:prstGeom prst="straightConnector1">
            <a:avLst/>
          </a:prstGeom>
          <a:ln w="38160">
            <a:solidFill>
              <a:srgbClr val="46465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Скрытые трансакции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31F2-A028-420E-8518-1DA4A3F5CFDB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9360">
            <a:solidFill>
              <a:srgbClr val="464653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глова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война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Овал 6"/>
          <p:cNvSpPr/>
          <p:nvPr/>
        </p:nvSpPr>
        <p:spPr>
          <a:xfrm>
            <a:off x="685800" y="2209680"/>
            <a:ext cx="1143000" cy="1143000"/>
          </a:xfrm>
          <a:prstGeom prst="ellipse">
            <a:avLst/>
          </a:prstGeom>
          <a:solidFill>
            <a:srgbClr val="d2da7a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Овал 7"/>
          <p:cNvSpPr/>
          <p:nvPr/>
        </p:nvSpPr>
        <p:spPr>
          <a:xfrm>
            <a:off x="3048120" y="2286000"/>
            <a:ext cx="1143000" cy="1143000"/>
          </a:xfrm>
          <a:prstGeom prst="ellipse">
            <a:avLst/>
          </a:prstGeom>
          <a:solidFill>
            <a:srgbClr val="d2da7a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Овал 8"/>
          <p:cNvSpPr/>
          <p:nvPr/>
        </p:nvSpPr>
        <p:spPr>
          <a:xfrm>
            <a:off x="762120" y="3505320"/>
            <a:ext cx="1143000" cy="1143000"/>
          </a:xfrm>
          <a:prstGeom prst="ellipse">
            <a:avLst/>
          </a:prstGeom>
          <a:solidFill>
            <a:srgbClr val="d2da7a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Овал 9"/>
          <p:cNvSpPr/>
          <p:nvPr/>
        </p:nvSpPr>
        <p:spPr>
          <a:xfrm>
            <a:off x="3124080" y="3505320"/>
            <a:ext cx="1143000" cy="1143000"/>
          </a:xfrm>
          <a:prstGeom prst="ellipse">
            <a:avLst/>
          </a:prstGeom>
          <a:solidFill>
            <a:srgbClr val="d2da7a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Овал 10"/>
          <p:cNvSpPr/>
          <p:nvPr/>
        </p:nvSpPr>
        <p:spPr>
          <a:xfrm>
            <a:off x="762120" y="4800600"/>
            <a:ext cx="1143000" cy="1143000"/>
          </a:xfrm>
          <a:prstGeom prst="ellipse">
            <a:avLst/>
          </a:prstGeom>
          <a:solidFill>
            <a:srgbClr val="d2da7a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Овал 11"/>
          <p:cNvSpPr/>
          <p:nvPr/>
        </p:nvSpPr>
        <p:spPr>
          <a:xfrm>
            <a:off x="3048120" y="4800600"/>
            <a:ext cx="1143000" cy="1143000"/>
          </a:xfrm>
          <a:prstGeom prst="ellipse">
            <a:avLst/>
          </a:prstGeom>
          <a:solidFill>
            <a:srgbClr val="d2da7a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Овал 12"/>
          <p:cNvSpPr/>
          <p:nvPr/>
        </p:nvSpPr>
        <p:spPr>
          <a:xfrm>
            <a:off x="4876920" y="2286000"/>
            <a:ext cx="1143000" cy="1143000"/>
          </a:xfrm>
          <a:prstGeom prst="ellipse">
            <a:avLst/>
          </a:prstGeom>
          <a:solidFill>
            <a:srgbClr val="d2da7a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Овал 13"/>
          <p:cNvSpPr/>
          <p:nvPr/>
        </p:nvSpPr>
        <p:spPr>
          <a:xfrm>
            <a:off x="4876920" y="3581280"/>
            <a:ext cx="1143000" cy="1143000"/>
          </a:xfrm>
          <a:prstGeom prst="ellipse">
            <a:avLst/>
          </a:prstGeom>
          <a:solidFill>
            <a:srgbClr val="d2da7a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Овал 14"/>
          <p:cNvSpPr/>
          <p:nvPr/>
        </p:nvSpPr>
        <p:spPr>
          <a:xfrm>
            <a:off x="4876920" y="4800600"/>
            <a:ext cx="1143000" cy="1143000"/>
          </a:xfrm>
          <a:prstGeom prst="ellipse">
            <a:avLst/>
          </a:prstGeom>
          <a:solidFill>
            <a:srgbClr val="d2da7a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Овал 15"/>
          <p:cNvSpPr/>
          <p:nvPr/>
        </p:nvSpPr>
        <p:spPr>
          <a:xfrm>
            <a:off x="7391520" y="2286000"/>
            <a:ext cx="1143000" cy="1143000"/>
          </a:xfrm>
          <a:prstGeom prst="ellipse">
            <a:avLst/>
          </a:prstGeom>
          <a:solidFill>
            <a:srgbClr val="d2da7a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Овал 16"/>
          <p:cNvSpPr/>
          <p:nvPr/>
        </p:nvSpPr>
        <p:spPr>
          <a:xfrm>
            <a:off x="7391520" y="3581280"/>
            <a:ext cx="1143000" cy="1143000"/>
          </a:xfrm>
          <a:prstGeom prst="ellipse">
            <a:avLst/>
          </a:prstGeom>
          <a:solidFill>
            <a:srgbClr val="d2da7a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Овал 17"/>
          <p:cNvSpPr/>
          <p:nvPr/>
        </p:nvSpPr>
        <p:spPr>
          <a:xfrm>
            <a:off x="7467480" y="4876920"/>
            <a:ext cx="1143000" cy="1143000"/>
          </a:xfrm>
          <a:prstGeom prst="ellipse">
            <a:avLst/>
          </a:prstGeom>
          <a:solidFill>
            <a:srgbClr val="d2da7a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9" name="Прямая со стрелкой 19"/>
          <p:cNvCxnSpPr/>
          <p:nvPr/>
        </p:nvCxnSpPr>
        <p:spPr>
          <a:xfrm>
            <a:off x="1447920" y="4038120"/>
            <a:ext cx="2134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0" name="Прямая со стрелкой 21"/>
          <p:cNvCxnSpPr/>
          <p:nvPr/>
        </p:nvCxnSpPr>
        <p:spPr>
          <a:xfrm flipH="1" flipV="1">
            <a:off x="1371240" y="4266360"/>
            <a:ext cx="22867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1" name="Прямая со стрелкой 23"/>
          <p:cNvCxnSpPr/>
          <p:nvPr/>
        </p:nvCxnSpPr>
        <p:spPr>
          <a:xfrm>
            <a:off x="1447920" y="4343400"/>
            <a:ext cx="2134080" cy="991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482" name="Прямая со стрелкой 25"/>
          <p:cNvCxnSpPr/>
          <p:nvPr/>
        </p:nvCxnSpPr>
        <p:spPr>
          <a:xfrm flipH="1" flipV="1">
            <a:off x="1294920" y="4495320"/>
            <a:ext cx="228672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483" name="Прямая со стрелкой 27"/>
          <p:cNvCxnSpPr/>
          <p:nvPr/>
        </p:nvCxnSpPr>
        <p:spPr>
          <a:xfrm>
            <a:off x="5562360" y="4038120"/>
            <a:ext cx="23626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4" name="Прямая со стрелкой 28"/>
          <p:cNvCxnSpPr/>
          <p:nvPr/>
        </p:nvCxnSpPr>
        <p:spPr>
          <a:xfrm flipH="1" flipV="1">
            <a:off x="5562360" y="4343040"/>
            <a:ext cx="22867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5" name="Прямая со стрелкой 31"/>
          <p:cNvCxnSpPr/>
          <p:nvPr/>
        </p:nvCxnSpPr>
        <p:spPr>
          <a:xfrm>
            <a:off x="5562360" y="5257800"/>
            <a:ext cx="25153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486" name="Прямая со стрелкой 33"/>
          <p:cNvCxnSpPr/>
          <p:nvPr/>
        </p:nvCxnSpPr>
        <p:spPr>
          <a:xfrm flipH="1" flipV="1">
            <a:off x="5638320" y="5637960"/>
            <a:ext cx="236304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Процедуры и ритуалы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88" name="Номер слайда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C65C-3D12-44AD-A1F6-0EBFFA8B3793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оцедурой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называют серию простых дополнительных Взрослых трансакций, направленных на взаимодействие с действительностью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итуалом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называют стереотипную серию простых дополнительных трансакций, заданных внешними социальными факторам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Игры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D93A-E9E8-4D82-B661-8D879740822C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грой называют серию следующих друг за другом скрытых дополнительных трансакций с четко определенным и предсказуемым итого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Характеристики игр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05FE-5E8D-4B2C-931F-9A5670D7282D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) Скрытые мотив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) Наличие выигрыш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Теория сценариев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7B59-ED2A-4660-95CB-C7EAB47DC1B6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ценарий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— это «план жизни, составленный в детстве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Контрсценарий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— некая последовательность действий, приводящих к «избавлению» от сценар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Антисценарий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— «сценарий наоборот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Элементы сценария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00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FF30-DB9C-495A-8142-5A9635290A62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ценарий предполагает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одительские указан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дходящее личностное развитие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ешение в детском возраст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ействительную «включенность» в какой-то особенный механизм, несущий успех или неудач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беждающую установк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Варианты отношения к себе и миру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03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4E6F-703A-45E9-9AAA-C2A34DB25C18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Я «+» Ты «+» - победите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Я «+» Ты «–» - превосходств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Я «–» Ты «+» - неудачн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Я «–» Ты «–» - позиция безнадеж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64653"/>
                </a:solidFill>
                <a:latin typeface="Cambria"/>
              </a:rPr>
              <a:t>Теория трансакционного (трансактного) анализа 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9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9BB0-96BE-4E46-8405-488D4D54C7A0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зработана американским психотерапевтом Эриком Берном в 60-х годах ХХ век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11" descr="Портрет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2708280"/>
            <a:ext cx="281952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Сценарная формула по Э.Берну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06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CC30-97B8-4899-9360-868D1C2CCE31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РВ – Пр – Сл – ВП – Ито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РВ – раннее родительское влия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 – програм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 – склонность следовать программ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П – важнейшие поступ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Жизненные сценарии по К. Штайнеру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09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6B65-643F-47CB-BE15-F966485D2C61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без любв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без радост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без разум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Задания для обсуждения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12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F578-8C14-4C69-946A-81D1FB7C8428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ясните, с каких позиций действуют и должны действовать участники ситуаций (Родитель, Взрослый, Ребёнок), каков характер трансакции. Будет ли эффективным общение в трансакциях и почему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итуации для анализа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16" name="Номер слайда 3"/>
          <p:cNvSpPr/>
          <p:nvPr/>
        </p:nvSpPr>
        <p:spPr>
          <a:xfrm>
            <a:off x="1216080" y="63547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755C-1C9F-4A59-9559-D5A80DE5EC7B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Ситуация 1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18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4DBB-E199-40AE-B118-91075D5EE29E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удент обращается к экзаменатору: «Почему вы поставили мне четверку, а не пятерку?». Экзаменатор: «Давайте разберемся». И, используя аргументы, обосновывает выставленную оценк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Ситуация 2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1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3026-60EC-4291-A6D1-BF4BA323A87A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Иванов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 стало с молодежью?! Она совсем распустилась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Петров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, в их годы мы были поскромне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Ситуация 3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4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3CDC-3EF2-45FD-82E7-D00C4FD712B0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Кассир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не сорваться ли нам в кино, пока нет начальства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Бухгалтер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Будьте добры, передайте мне ведомости за прошлый кварта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Ситуация 4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7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8BA2-6A16-455E-80E0-46C9CC63149E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Голубева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водите меня, у нас в подъезде вечно толкутся пьяны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Коршунов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у, конечно-конечно, с удовольствием провож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Ситуация 5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30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B393-CF39-4A79-A66C-BB4952E975D4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Петров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ейчас-сейчас, я предоставлю вам слово, я вижу, что вы уже пятый раз поднимаете рук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Сидоров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гу и вообще не выступать.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Ситуация 6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33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47DD-4D4B-42DF-896D-88A5FA669578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Иванов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ак вам не стыдно сидеть, когда рядом инвалид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Петров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ак уступи ему место, дедуся. А то расселся тут и указывает... Кто ты такой, чтобы всем указывать?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64653"/>
                </a:solidFill>
                <a:latin typeface="Cambria"/>
              </a:rPr>
              <a:t>Берн, Эрик Леннард </a:t>
            </a:r>
            <a:br>
              <a:rPr sz="3600"/>
            </a:br>
            <a:r>
              <a:rPr b="0" lang="ru-RU" sz="3600" spc="-1" strike="noStrike">
                <a:solidFill>
                  <a:srgbClr val="464653"/>
                </a:solidFill>
                <a:latin typeface="Cambria"/>
              </a:rPr>
              <a:t>1910 -1970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3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DF45-7B3E-45BE-A3AD-64364FAD5C4C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одился в Монреале в семье выходцев из Российской империи, доктора Давида Гиллеля Бернстайна и литератора Сары Гордон. Известен, прежде всего, как разработчик трансакционного анализ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Ситуация 7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36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2096-4793-4D94-B6ED-0D2C01A1998B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Ковбой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 хотите ли взглянуть на наши конюшни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Барышня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х, я с детства обожаю лошадок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Ситуация 8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39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042F-D24A-4F07-8414-3DF414025CC2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Преподаватель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аким это образом у вас здесь получилось трехзначное число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Студент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х, да, забыл извлечь квадратный корень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4653"/>
                </a:solidFill>
                <a:latin typeface="Cambria"/>
              </a:rPr>
              <a:t>Положения теории трансактного анализа</a:t>
            </a:r>
            <a:br>
              <a:rPr sz="4000"/>
            </a:br>
            <a:endParaRPr b="0" lang="en-US" sz="4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6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31C2-8BEB-404A-B6A4-4ED83221D210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Трансакционный анализ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Т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представляет собой психологическую модель, служащую для описания и анализа поведения человека, — как индивидуально, так и в составе групп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Общефилософские посылки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E3D9-4BD7-464A-9A77-1E81743275BC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люди «нормальные» то есть, каждая личность обладает весом, важностью, равным правом на уваж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юди обладают способностью мыслить (исключение — лишь те случаи, когда человек находится в бессознательном состоянии, либо его интеллект врождённо или приобретено сниже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юди сами определяют собственную судьбу и поэтому при желании могут изменять свои решения и свою жиз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Эго-состояния</a:t>
            </a: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AD49-ED08-4580-B79C-BC3391A8C182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стеропсихи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опсихи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рхеопсихи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Овал 6" descr=""/>
          <p:cNvPicPr/>
          <p:nvPr/>
        </p:nvPicPr>
        <p:blipFill>
          <a:blip r:embed="rId1"/>
          <a:stretch/>
        </p:blipFill>
        <p:spPr>
          <a:xfrm>
            <a:off x="5864400" y="1901880"/>
            <a:ext cx="1311120" cy="1311120"/>
          </a:xfrm>
          <a:prstGeom prst="rect">
            <a:avLst/>
          </a:prstGeom>
          <a:ln w="0">
            <a:noFill/>
          </a:ln>
        </p:spPr>
      </p:pic>
      <p:pic>
        <p:nvPicPr>
          <p:cNvPr id="376" name="Овал 7" descr=""/>
          <p:cNvPicPr/>
          <p:nvPr/>
        </p:nvPicPr>
        <p:blipFill>
          <a:blip r:embed="rId2"/>
          <a:stretch/>
        </p:blipFill>
        <p:spPr>
          <a:xfrm>
            <a:off x="5937120" y="3193920"/>
            <a:ext cx="1317600" cy="1317600"/>
          </a:xfrm>
          <a:prstGeom prst="rect">
            <a:avLst/>
          </a:prstGeom>
          <a:ln w="0">
            <a:noFill/>
          </a:ln>
        </p:spPr>
      </p:pic>
      <p:pic>
        <p:nvPicPr>
          <p:cNvPr id="377" name="Овал 8" descr=""/>
          <p:cNvPicPr/>
          <p:nvPr/>
        </p:nvPicPr>
        <p:blipFill>
          <a:blip r:embed="rId3"/>
          <a:stretch/>
        </p:blipFill>
        <p:spPr>
          <a:xfrm>
            <a:off x="5937120" y="4492800"/>
            <a:ext cx="131760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Экстеропсихика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9" name="Номер слайда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8627-CEEA-472D-8232-783FC816C9D7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брание информации внешних событий, воспринятых в первые годы жизни. Эта информация была воспринята без проверки.  Характерно восприятие жизни через заданную, непроверенную информацию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Схема 4" descr=""/>
          <p:cNvPicPr/>
          <p:nvPr/>
        </p:nvPicPr>
        <p:blipFill>
          <a:blip r:embed="rId1"/>
          <a:stretch/>
        </p:blipFill>
        <p:spPr>
          <a:xfrm>
            <a:off x="0" y="3340080"/>
            <a:ext cx="5181480" cy="2500200"/>
          </a:xfrm>
          <a:prstGeom prst="rect">
            <a:avLst/>
          </a:prstGeom>
          <a:ln w="0">
            <a:noFill/>
          </a:ln>
        </p:spPr>
      </p:pic>
      <p:grpSp>
        <p:nvGrpSpPr>
          <p:cNvPr id="382" name="Группа 5"/>
          <p:cNvGrpSpPr/>
          <p:nvPr/>
        </p:nvGrpSpPr>
        <p:grpSpPr>
          <a:xfrm>
            <a:off x="5715000" y="3276720"/>
            <a:ext cx="1492200" cy="947520"/>
            <a:chOff x="5715000" y="3276720"/>
            <a:chExt cx="1492200" cy="947520"/>
          </a:xfrm>
        </p:grpSpPr>
        <p:sp>
          <p:nvSpPr>
            <p:cNvPr id="383" name="Скругленный прямоугольник 6"/>
            <p:cNvSpPr/>
            <p:nvPr/>
          </p:nvSpPr>
          <p:spPr>
            <a:xfrm>
              <a:off x="5715000" y="3276720"/>
              <a:ext cx="1492200" cy="947520"/>
            </a:xfrm>
            <a:prstGeom prst="roundRect">
              <a:avLst>
                <a:gd name="adj" fmla="val 10000"/>
              </a:avLst>
            </a:prstGeom>
            <a:solidFill>
              <a:srgbClr val="ffffff">
                <a:alpha val="90000"/>
              </a:srgbClr>
            </a:solidFill>
            <a:ln w="19080">
              <a:solidFill>
                <a:srgbClr val="727c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Скругленный прямоугольник 4"/>
            <p:cNvSpPr/>
            <p:nvPr/>
          </p:nvSpPr>
          <p:spPr>
            <a:xfrm>
              <a:off x="5741640" y="3303360"/>
              <a:ext cx="1438560" cy="8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Проя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Группа 8"/>
          <p:cNvGrpSpPr/>
          <p:nvPr/>
        </p:nvGrpSpPr>
        <p:grpSpPr>
          <a:xfrm>
            <a:off x="5181480" y="4572000"/>
            <a:ext cx="3113280" cy="1023840"/>
            <a:chOff x="5181480" y="4572000"/>
            <a:chExt cx="3113280" cy="1023840"/>
          </a:xfrm>
        </p:grpSpPr>
        <p:sp>
          <p:nvSpPr>
            <p:cNvPr id="386" name="Скругленный прямоугольник 9"/>
            <p:cNvSpPr/>
            <p:nvPr/>
          </p:nvSpPr>
          <p:spPr>
            <a:xfrm>
              <a:off x="5181480" y="4647960"/>
              <a:ext cx="1492200" cy="947880"/>
            </a:xfrm>
            <a:prstGeom prst="roundRect">
              <a:avLst>
                <a:gd name="adj" fmla="val 10000"/>
              </a:avLst>
            </a:prstGeom>
            <a:solidFill>
              <a:srgbClr val="ffffff">
                <a:alpha val="90000"/>
              </a:srgbClr>
            </a:solidFill>
            <a:ln w="19080">
              <a:solidFill>
                <a:srgbClr val="727c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Актив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Скругленный прямоугольник 4"/>
            <p:cNvSpPr/>
            <p:nvPr/>
          </p:nvSpPr>
          <p:spPr>
            <a:xfrm>
              <a:off x="6858000" y="4572000"/>
              <a:ext cx="143676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Группа 11"/>
          <p:cNvGrpSpPr/>
          <p:nvPr/>
        </p:nvGrpSpPr>
        <p:grpSpPr>
          <a:xfrm>
            <a:off x="7086600" y="4648320"/>
            <a:ext cx="1492200" cy="947520"/>
            <a:chOff x="7086600" y="4648320"/>
            <a:chExt cx="1492200" cy="947520"/>
          </a:xfrm>
        </p:grpSpPr>
        <p:sp>
          <p:nvSpPr>
            <p:cNvPr id="389" name="Скругленный прямоугольник 12"/>
            <p:cNvSpPr/>
            <p:nvPr/>
          </p:nvSpPr>
          <p:spPr>
            <a:xfrm>
              <a:off x="7086600" y="4648320"/>
              <a:ext cx="1492200" cy="947520"/>
            </a:xfrm>
            <a:prstGeom prst="roundRect">
              <a:avLst>
                <a:gd name="adj" fmla="val 10000"/>
              </a:avLst>
            </a:prstGeom>
            <a:solidFill>
              <a:srgbClr val="ffffff">
                <a:alpha val="90000"/>
              </a:srgbClr>
            </a:solidFill>
            <a:ln w="19080">
              <a:solidFill>
                <a:srgbClr val="727c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Скругленный прямоугольник 4"/>
            <p:cNvSpPr/>
            <p:nvPr/>
          </p:nvSpPr>
          <p:spPr>
            <a:xfrm>
              <a:off x="7113240" y="4674960"/>
              <a:ext cx="1438560" cy="8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Косвен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Прямая соединительная линия 3"/>
          <p:cNvSpPr/>
          <p:nvPr/>
        </p:nvSpPr>
        <p:spPr>
          <a:xfrm>
            <a:off x="6629400" y="4191120"/>
            <a:ext cx="838080" cy="423720"/>
          </a:xfrm>
          <a:custGeom>
            <a:avLst/>
            <a:gdLst>
              <a:gd name="textAreaLeft" fmla="*/ 0 w 838080"/>
              <a:gd name="textAreaRight" fmla="*/ 838440 w 83808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838200" h="423863">
                <a:moveTo>
                  <a:pt x="0" y="0"/>
                </a:moveTo>
                <a:lnTo>
                  <a:pt x="0" y="285658"/>
                </a:lnTo>
                <a:lnTo>
                  <a:pt x="838203" y="285658"/>
                </a:lnTo>
                <a:lnTo>
                  <a:pt x="838203" y="423914"/>
                </a:lnTo>
              </a:path>
            </a:pathLst>
          </a:custGeom>
          <a:noFill/>
          <a:ln w="19080">
            <a:solidFill>
              <a:srgbClr val="596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ая соединительная линия 3"/>
          <p:cNvSpPr/>
          <p:nvPr/>
        </p:nvSpPr>
        <p:spPr>
          <a:xfrm>
            <a:off x="5638680" y="4191120"/>
            <a:ext cx="990720" cy="423720"/>
          </a:xfrm>
          <a:custGeom>
            <a:avLst/>
            <a:gdLst>
              <a:gd name="textAreaLeft" fmla="*/ 0 w 990720"/>
              <a:gd name="textAreaRight" fmla="*/ 991080 w 99072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990600" h="423863">
                <a:moveTo>
                  <a:pt x="990594" y="0"/>
                </a:moveTo>
                <a:lnTo>
                  <a:pt x="990594" y="285658"/>
                </a:lnTo>
                <a:lnTo>
                  <a:pt x="0" y="285658"/>
                </a:lnTo>
                <a:lnTo>
                  <a:pt x="0" y="423914"/>
                </a:lnTo>
              </a:path>
            </a:pathLst>
          </a:custGeom>
          <a:noFill/>
          <a:ln w="19080">
            <a:solidFill>
              <a:srgbClr val="596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Неопсихика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568B-4663-4BC4-A914-D640F892B5AF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образует и анализирует всю поступающую информацию. В данной составляющей личности преобладают когнитивные процесс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еонид</cp:lastModifiedBy>
  <dcterms:modified xsi:type="dcterms:W3CDTF">2020-08-26T12:17:46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